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7B8-10FE-4AC2-87C7-5A04CB29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887-FC48-41AF-89CF-627E0631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8EB-2407-4761-BFAC-EE7488E8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F12-F0D5-4EEF-B362-171CDC64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00B6-8AA6-497C-8AEF-409FA28E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43B2-8704-412C-A785-1914F12B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CFE1-E058-4597-9693-6C8A4F09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40BB-BB35-42A1-9825-EABD50C1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3E74-18F1-4B46-BFCB-4048B95F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1209-B5D3-46AC-9EDB-CA96B781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9BB0-E196-4E57-829F-CDC656C0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8C6-6D81-4146-B6D6-E1469599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ADB2-8BAD-4409-8675-B8BFFD9F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A678-68B2-403E-B5F1-EC50159B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773B-0BB4-4F1D-A877-38D19CC9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FCE6-29EC-4F73-967B-1C0F7409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56EE-04D6-4F55-8D4F-D0C0782F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7EE-E788-4367-9866-E6AE9CA3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F78-A3DB-44AF-8F5E-541BD0B2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15D-10DD-4F6E-B51E-97E59485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79D-E7B6-4A48-BE92-9D92C03B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133-ACBB-45ED-9A8A-BFA63B0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F1A-30F8-4E83-B346-FD0A3C6F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53C-7BF3-4EAD-81C4-F8740041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FA5F-5697-4F56-A00D-B4C429878A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6498-37DF-418C-9511-333BFC43F1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65680" y="457200"/>
          <a:ext cx="141120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5680" y="457200"/>
                    <a:ext cx="141120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2789280"/>
            <a:ext cx="863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492b0"/>
                </a:solidFill>
                <a:latin typeface="Arial Black"/>
              </a:rPr>
              <a:t>Group 4 Proj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Process to Identify a group 4 Project (cont.)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Step 4: Narrow it down to a focused question, e.g., How can agriculture help reduce pollution?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Step 5: Students in each subject come up with issues in their own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and create a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Step 6: Students in each subject narrow these down to what they can collect in terms of data and investig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~AUT0029" descr=""/>
          <p:cNvPicPr/>
          <p:nvPr/>
        </p:nvPicPr>
        <p:blipFill>
          <a:blip r:embed="rId1"/>
          <a:stretch/>
        </p:blipFill>
        <p:spPr>
          <a:xfrm>
            <a:off x="1295280" y="0"/>
            <a:ext cx="723924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road Topic: Sick Building Syndro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Black"/>
              </a:rPr>
              <a:t>Focused Question: How do the environmental conditions in a given building cause illnes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Biology issues:</a:t>
            </a: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  Survey of symptoms, research into existing medical data: studies of respiratory illnesses, research on organisms --cause/eff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Black"/>
              </a:rPr>
              <a:t>Chemistry Issues:</a:t>
            </a:r>
            <a:r>
              <a:rPr b="1" lang="en-US" sz="1800" spc="-1" strike="noStrike">
                <a:solidFill>
                  <a:srgbClr val="006600"/>
                </a:solidFill>
                <a:latin typeface="Arial Black"/>
              </a:rPr>
              <a:t> Call Health Department to find out tests for sick building e.g. in humidity studies, harmful gases,, etc. CO, CO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Arial Black"/>
              </a:rPr>
              <a:t>2</a:t>
            </a:r>
            <a:r>
              <a:rPr b="1" lang="en-US" sz="1800" spc="-1" strike="noStrike">
                <a:solidFill>
                  <a:srgbClr val="006600"/>
                </a:solidFill>
                <a:latin typeface="Arial Black"/>
              </a:rPr>
              <a:t>, particulates, water analysis, investigations of Brownian motion; Rn detection, condensation patter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Black"/>
              </a:rPr>
              <a:t>Physics Issues:</a:t>
            </a:r>
            <a:r>
              <a:rPr b="1" lang="en-US" sz="1800" spc="-1" strike="noStrike">
                <a:solidFill>
                  <a:srgbClr val="a50021"/>
                </a:solidFill>
                <a:latin typeface="Arial Black"/>
              </a:rPr>
              <a:t> measurement of electromagnetic fields, air flow patterns, R factors, temperature of the build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 Black"/>
              </a:rPr>
              <a:t>Examples of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Arial Black"/>
              </a:rPr>
              <a:t>Group 4 Project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Natural &amp; Synthetic Fi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400 m Running R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 study of an Estu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School Swimming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aper Recyc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effect of Caffeine on the Human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etroleum and the Auto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Classroom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ransport to 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 4 Project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Garb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healthy is our Schoo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lution in City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e Energy Sources for the Sch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er /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e St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ea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ce of Toys / Thrill R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idence of particip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Tahoma"/>
              </a:rPr>
              <a:t>Individual-statement written by the student about his/her own individual contributions- (Your Journal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Individual-ABSTRAC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roup-poster produced by the group that includes the participation of the candidate whose work is being s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START YOUR GROUP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 a group of 4 that contains at least one biologist, one chemist, and one physic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iloso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0113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ientific investigations of today involv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eamwork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which , like the Group 4 Project, is interdisciplina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nderpinnings of teamwork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mmunica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respect for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Nature of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322000"/>
            <a:ext cx="849780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248"/>
                </a:solidFill>
                <a:latin typeface="Arial Black"/>
              </a:rPr>
              <a:t>Collaborative experi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Interdisciplinary co-ope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‘</a:t>
            </a: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Real Science’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Processes, not Produ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76320" y="380880"/>
          <a:ext cx="914400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914400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934320" y="52261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3352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6 -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Planning (2 – 3 hours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6564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haring of Information &amp;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the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Resear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Specific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Develop a Hypo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haring of information &amp;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finition of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475000"/>
            <a:ext cx="849780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Develop subject-specific questions to answer and 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 subject specific hypothe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Black"/>
              </a:rPr>
              <a:t>Define specific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Action (6 - 9 hours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eparate subject investig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As individuals or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Each science requires its own investi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aluation (2 – 3 hour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haring findings (successes, failures and prog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Format: Science Fair, Po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4120" y="2209680"/>
          <a:ext cx="380988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09680"/>
                    <a:ext cx="380988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17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Example of Process to Identify a group 4 Project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209700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tep 1: Identify major topics: e.g., body, pollution, water, recycling, air, energy, nutrition, waste, agricul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ep 2: concentrate on a few topics: Pollution, Agriculture, nutr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Step 3: Narrow topic down to one: e.g., Agriculture</a:t>
            </a: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4:37:08Z</dcterms:created>
  <dc:creator>Upper Canada College</dc:creator>
  <dc:description/>
  <dc:language>en-US</dc:language>
  <cp:lastModifiedBy>TDSB</cp:lastModifiedBy>
  <cp:lastPrinted>2009-04-22T19:24:48Z</cp:lastPrinted>
  <dcterms:modified xsi:type="dcterms:W3CDTF">2005-05-27T12:59:45Z</dcterms:modified>
  <cp:revision>42</cp:revision>
  <dc:subject/>
  <dc:title>PowerPoint Presentation</dc:title>
</cp:coreProperties>
</file>